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png" ContentType="image/png"/>
  <Override PartName="/ppt/media/image8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5688-5D5E-4328-AE68-7898D0AA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6EA0A-E377-4447-8536-7679FCAB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4806-2D9B-47C8-ADF1-3E674900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C3E1-8F8B-4394-B67C-DD8E4151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0821-E0CF-48C8-8521-9355EE8B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0973-BAB6-463B-ABB9-60F127EC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8736-6093-4508-A18D-3C0C3E44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439A-5308-47EF-9140-B13E76A1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EDC0-225F-4B0F-99E3-24FB754B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F3C9-FCC0-4654-AA89-C8E506E4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F33C-7DD0-4642-B05E-56D4F29F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A295-F821-4770-9A80-757816CE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0ACD-B55F-46D6-9409-D2131028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8F20-9900-462D-8171-356E26D5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9D76-7395-442D-91EC-DB78A924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EAA4-A86D-486A-99F4-EFAABF13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BD76-F6F7-4327-996A-14A05440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583E-2149-4D2B-B3A1-496F805E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FB7F-1D76-457F-B136-584F1AB6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0FEC2-5873-4602-93B4-B4F59D6C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00AA5-099A-4E66-AD23-85561B59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1B5E-0DD6-43C0-A202-31DE49FE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BDCE-034D-47EE-A1C7-1906E9EE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E62A-053B-40F1-92FE-3682B711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D691-740B-4055-A903-1484D125C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837C-E9EC-47DE-89EC-88C647839B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olive-drab.com/images/map_bulge_1944_full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14.5:  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The War End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lflagk"/>
          <p:cNvPicPr/>
          <p:nvPr/>
        </p:nvPicPr>
        <p:blipFill>
          <a:blip r:embed="rId1"/>
          <a:stretch/>
        </p:blipFill>
        <p:spPr>
          <a:xfrm>
            <a:off x="816120" y="20520"/>
            <a:ext cx="74898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Marines at Iwo Jima"/>
          <p:cNvPicPr/>
          <p:nvPr/>
        </p:nvPicPr>
        <p:blipFill>
          <a:blip r:embed="rId1"/>
          <a:stretch/>
        </p:blipFill>
        <p:spPr>
          <a:xfrm>
            <a:off x="1371600" y="380880"/>
            <a:ext cx="6400800" cy="60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.  The Atomic Bomb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Manhattan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 development of the atomic bom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enheimer; lead  scient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ing showed bomb had more power than predi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Picture 7" descr="200px-JROppenheimer-LosAlamos"/>
          <p:cNvPicPr/>
          <p:nvPr/>
        </p:nvPicPr>
        <p:blipFill>
          <a:blip r:embed="rId1"/>
          <a:stretch/>
        </p:blipFill>
        <p:spPr>
          <a:xfrm>
            <a:off x="4800600" y="1600200"/>
            <a:ext cx="3381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To Bomb or not to bom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Some against; immo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Some –use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.   as warning for Sovie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.  It’s built, so use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. Expense of m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Truman approves dropping bom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3.  Hiroshima and Nagasak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g 6, 1945: bomb dropped on Hiroshima; Japan does not surr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g 9,1945: second bomb dropped on Nagasa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 2, 1945  Hirohito formally surrenders to Gen. MacArth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8" descr="GENERAL DOUGLAS MACARTHUR &amp; EMPEROR HIROHITO AFTER SURRENDER CEREMONY"/>
          <p:cNvPicPr/>
          <p:nvPr/>
        </p:nvPicPr>
        <p:blipFill>
          <a:blip r:embed="rId1"/>
          <a:stretch/>
        </p:blipFill>
        <p:spPr>
          <a:xfrm>
            <a:off x="4419720" y="1752480"/>
            <a:ext cx="47242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3" descr="Image:Hiroshima aftermath.jpg"/>
          <p:cNvPicPr/>
          <p:nvPr/>
        </p:nvPicPr>
        <p:blipFill>
          <a:blip r:embed="rId1"/>
          <a:stretch/>
        </p:blipFill>
        <p:spPr>
          <a:xfrm>
            <a:off x="109440" y="995400"/>
            <a:ext cx="8926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youlose"/>
          <p:cNvPicPr/>
          <p:nvPr/>
        </p:nvPicPr>
        <p:blipFill>
          <a:blip r:embed="rId1"/>
          <a:stretch/>
        </p:blipFill>
        <p:spPr>
          <a:xfrm>
            <a:off x="4495680" y="914400"/>
            <a:ext cx="4318200" cy="571176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.  “Yalta Conference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d plans for the future and what to do with Germany and its terri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.  United Nations Form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 composed of countries willing to discuss matters before going to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Picture 3" descr=""/>
          <p:cNvPicPr/>
          <p:nvPr/>
        </p:nvPicPr>
        <p:blipFill>
          <a:blip r:embed="rId2"/>
          <a:stretch/>
        </p:blipFill>
        <p:spPr>
          <a:xfrm>
            <a:off x="2057400" y="2819520"/>
            <a:ext cx="466092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.  Nuremberg War Tria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als of  Nazi leaders at Nuremberg, Germ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2" name="Picture 6" descr="NurembergTrial_Jan5"/>
          <p:cNvPicPr/>
          <p:nvPr/>
        </p:nvPicPr>
        <p:blipFill>
          <a:blip r:embed="rId1"/>
          <a:stretch/>
        </p:blipFill>
        <p:spPr>
          <a:xfrm>
            <a:off x="1600200" y="1752480"/>
            <a:ext cx="6172200" cy="50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A.   Battle of the Bulge: Last German</a:t>
            </a:r>
            <a:br>
              <a:rPr sz="2800"/>
            </a:b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     Offensive (Belgium) (Dec. 1944)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 Allies caught off   gu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 Did not believe intelligence reports of imminent att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 Germany unable to recover the rest of the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9" descr="Map of the Battle of the Bul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1998720"/>
            <a:ext cx="45720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.  FDR Passes away</a:t>
            </a:r>
            <a:br>
              <a:rPr sz="4400"/>
            </a:b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pril 12, 1945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5" descr="fdr130"/>
          <p:cNvPicPr/>
          <p:nvPr/>
        </p:nvPicPr>
        <p:blipFill>
          <a:blip r:embed="rId1"/>
          <a:stretch/>
        </p:blipFill>
        <p:spPr>
          <a:xfrm>
            <a:off x="990720" y="1523880"/>
            <a:ext cx="7619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esident Harry Truma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2622600" y="1601640"/>
            <a:ext cx="9144000" cy="360"/>
          </a:xfrm>
          <a:prstGeom prst="rect">
            <a:avLst/>
          </a:prstGeom>
          <a:solidFill>
            <a:srgbClr val="ff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5" descr="A middle-aged Caucasian male wearing a dark business suit and wireframe glasses is depicted smilingly pensively at the camera in a black-and-white photo."/>
          <p:cNvPicPr/>
          <p:nvPr/>
        </p:nvPicPr>
        <p:blipFill>
          <a:blip r:embed="rId1"/>
          <a:stretch/>
        </p:blipFill>
        <p:spPr>
          <a:xfrm>
            <a:off x="2438280" y="1238400"/>
            <a:ext cx="441972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C.  Hitler and wife commit suicide</a:t>
            </a:r>
            <a:br>
              <a:rPr sz="3200"/>
            </a:b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April 30, 1945</a:t>
            </a:r>
            <a:br>
              <a:rPr sz="4000"/>
            </a:b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2727360" y="1355760"/>
            <a:ext cx="9144000" cy="360"/>
          </a:xfrm>
          <a:prstGeom prst="rect">
            <a:avLst/>
          </a:prstGeom>
          <a:solidFill>
            <a:srgbClr val="ff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13" descr="File:Stars &amp; Stripes &amp; Hitler Dead2.jpg"/>
          <p:cNvPicPr/>
          <p:nvPr/>
        </p:nvPicPr>
        <p:blipFill>
          <a:blip r:embed="rId1"/>
          <a:stretch/>
        </p:blipFill>
        <p:spPr>
          <a:xfrm>
            <a:off x="2797200" y="1263600"/>
            <a:ext cx="38098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.  V-E Da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ctory in Eur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8, 19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o finish Ja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5" descr="vjkiss"/>
          <p:cNvPicPr/>
          <p:nvPr/>
        </p:nvPicPr>
        <p:blipFill>
          <a:blip r:embed="rId1"/>
          <a:stretch/>
        </p:blipFill>
        <p:spPr>
          <a:xfrm>
            <a:off x="4419720" y="1447920"/>
            <a:ext cx="3617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E.  Iwo Jima:  refueling and bombing Japan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6" name="Picture 3" descr="lflaga2"/>
          <p:cNvPicPr/>
          <p:nvPr/>
        </p:nvPicPr>
        <p:blipFill>
          <a:blip r:embed="rId1"/>
          <a:stretch/>
        </p:blipFill>
        <p:spPr>
          <a:xfrm>
            <a:off x="1447920" y="990720"/>
            <a:ext cx="64767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8" name="Picture 5" descr="File:Iwo-to landsat1999.jpg"/>
          <p:cNvPicPr/>
          <p:nvPr/>
        </p:nvPicPr>
        <p:blipFill>
          <a:blip r:embed="rId1"/>
          <a:stretch/>
        </p:blipFill>
        <p:spPr>
          <a:xfrm>
            <a:off x="743040" y="0"/>
            <a:ext cx="743904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lflagi"/>
          <p:cNvPicPr/>
          <p:nvPr/>
        </p:nvPicPr>
        <p:blipFill>
          <a:blip r:embed="rId1"/>
          <a:stretch/>
        </p:blipFill>
        <p:spPr>
          <a:xfrm>
            <a:off x="1752480" y="-25560"/>
            <a:ext cx="5715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PER</cp:lastModifiedBy>
  <dcterms:modified xsi:type="dcterms:W3CDTF">2012-02-15T02:00:0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